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803-3BE3-4794-BAA0-8CD3725D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DC4-0EFF-47C2-A090-36DB9724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6B2-6CC6-4EB0-930A-3ECD5238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4F7-E608-4DC3-9AD9-966617F2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E321-F275-46CF-959E-A3459B3E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D5DF-8E32-46DB-B3AF-2AE33F40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45E1-D389-4A3A-86C7-165D5E5A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2890-C79D-4D86-BF83-560B2734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9CD7-8155-4869-87B4-08FCF9C3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7DCF-BE58-435A-B473-242608B6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477E-9081-4009-82BE-206CE886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A58-3198-4D66-97AD-28643AEC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1392-1A35-4ABA-9CE1-5D15B497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F1BC-93D2-4F42-83F1-3147616F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EBBF-CA7C-47A2-8540-F406603C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26CA-0378-41A3-B362-BACB8717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505C-C15F-48FE-9467-6E5FAE73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F15-215A-45C3-9D4B-1321374B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9EA-7BBC-4247-8DA3-E94967E8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86D-4A7C-4A72-AD1C-CF77642C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F09-5267-4E82-B87C-B1E02E90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4FE-E2CE-42CA-9808-5A3B3DB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3F7-B97F-4A00-8C34-02567B27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B02-9D15-4566-B6BC-601C4B0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75F3-77E3-497C-8353-10DD3293374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B83B-34CC-4130-B764-220E8BB3D7C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84360" y="620640"/>
            <a:ext cx="4175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eaching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 3 day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6440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9933ff"/>
                </a:solidFill>
                <a:latin typeface="Seagull Lt BT"/>
              </a:rPr>
              <a:t>Foot Joint Mobilisation</a:t>
            </a:r>
            <a:endParaRPr b="0" lang="en-US" sz="8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342120" y="3146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508464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ith Maree Gifkin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96360" y="5734080"/>
            <a:ext cx="81252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2008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016000" cy="1700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087640" cy="177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87280" y="213372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tistik"/>
              </a:rPr>
              <a:t>Bef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4720" y="213372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tistik"/>
              </a:rPr>
              <a:t>Aft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14526" t="20109" r="13192" b="13007"/>
          <a:stretch/>
        </p:blipFill>
        <p:spPr>
          <a:xfrm>
            <a:off x="4716360" y="2924280"/>
            <a:ext cx="3959280" cy="310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3640" y="549000"/>
            <a:ext cx="482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Foot Joint Mobilis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1992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Tahoma"/>
              </a:rPr>
              <a:t>Ten minutes needed for Both Fee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Tahoma"/>
              </a:rPr>
              <a:t>Very specialized field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Tahoma"/>
              </a:rPr>
              <a:t>No clothes to be taken off, safe for both male and femal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357720"/>
            <a:ext cx="410364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Maree Gifkin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1111 St Aubyn St Eas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Hasting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New Zealan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+6468703929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www.footjointmobile.co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92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62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1200"/>
                            </p:stCondLst>
                            <p:childTnLst>
                              <p:par>
                                <p:cTn id="37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60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Seagull Lt BT"/>
              </a:rPr>
              <a:t>Maree Gifkins - Teac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5616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Australasian Specialist in</a:t>
            </a:r>
            <a:r>
              <a:rPr b="0" lang="en-NZ" sz="2400" spc="-1" strike="noStrike">
                <a:solidFill>
                  <a:srgbClr val="a6b6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a6b6f8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NZ" sz="2400" spc="-1" strike="noStrike">
                <a:solidFill>
                  <a:srgbClr val="c9fffe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Teaching </a:t>
            </a:r>
            <a:r>
              <a:rPr b="0" lang="en-NZ" sz="24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 for 12 year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Reflexology for 10 year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ffff"/>
                </a:solidFill>
                <a:latin typeface="Tahoma"/>
              </a:rPr>
              <a:t>Naturopath of 14 year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ffff"/>
                </a:solidFill>
                <a:latin typeface="Tahoma"/>
              </a:rPr>
              <a:t>Qualified in Teaching and Assessing Small Group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Teaching Self Empowerment Courses for 4 year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Trainer/guide for Meditation Group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44560" cy="41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3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3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1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1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9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0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88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87640" y="549360"/>
            <a:ext cx="324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eagull Lt BT"/>
              </a:rPr>
              <a:t>Qualific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Trained by Dr Harvey Lampell (creator of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) USA, 14 years ago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Tahoma"/>
              </a:rPr>
              <a:t>Certified in Teaching and Assessi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12 years experience in teaching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 in various countri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Working through different types of learning abilities and </a:t>
            </a:r>
            <a:r>
              <a:rPr b="0" lang="en-NZ" sz="2800" spc="-1" strike="noStrike">
                <a:solidFill>
                  <a:srgbClr val="00ffff"/>
                </a:solidFill>
                <a:latin typeface="Tahoma"/>
              </a:rPr>
              <a:t>special needs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within the workshop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Patients, being my greatest tool and qualific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spd="slow">
    <p:cover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3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8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380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74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2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10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920" y="549360"/>
            <a:ext cx="469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eagull Lt BT"/>
              </a:rPr>
              <a:t>Quality of Teach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583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Teaching aids are used in clas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Pressure image used and discussed for validating </a:t>
            </a:r>
            <a:r>
              <a:rPr b="0" lang="en-US" sz="20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 in the 21</a:t>
            </a:r>
            <a:r>
              <a:rPr b="0" lang="en-US" sz="2000" spc="-1" strike="noStrike" baseline="30000">
                <a:solidFill>
                  <a:srgbClr val="00ffff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  century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Text book of </a:t>
            </a: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Theory,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 Photos to be used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Practical/Demonstrations to be experienced and watched and then practiced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Providing a safe environment for the learning of this modality for all students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Constant assessment with all students during workshop for learning quandary in theory and practical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Safe 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tmosphere and respect for healing of the body, soul and spirit to take place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2199" t="8630" r="12252" b="19418"/>
          <a:stretch/>
        </p:blipFill>
        <p:spPr>
          <a:xfrm>
            <a:off x="6084720" y="1484280"/>
            <a:ext cx="2521080" cy="2033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15565" t="15724" r="13409" b="13527"/>
          <a:stretch/>
        </p:blipFill>
        <p:spPr>
          <a:xfrm>
            <a:off x="6300720" y="3789360"/>
            <a:ext cx="2374920" cy="208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093080" y="335772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tistik"/>
              </a:rPr>
              <a:t>Bef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5734080"/>
            <a:ext cx="7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tistik"/>
              </a:rPr>
              <a:t>Aft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3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3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7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33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2800"/>
                            </p:stCondLst>
                            <p:childTnLst>
                              <p:par>
                                <p:cTn id="1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90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ssessment of studen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4897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Over the 3 days the teacher will supervise and correct the 17 moves that people will be learning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Practical application of all 17 moves learnt in the workshop will be demonstrated on the teacher towards the end of the course by all 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participants. </a:t>
            </a: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 In which an assessment and correction if needed will take place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This gives confidence to students that they are very capable of working on people straight away.  Also the teacher </a:t>
            </a:r>
            <a:r>
              <a:rPr b="0" lang="en-US" sz="2000" spc="-1" strike="noStrike">
                <a:solidFill>
                  <a:srgbClr val="00c0bc"/>
                </a:solidFill>
                <a:latin typeface="Tahoma"/>
              </a:rPr>
              <a:t>has instant verification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that these new </a:t>
            </a:r>
            <a:r>
              <a:rPr b="0" lang="en-US" sz="20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 therapists are prepared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13146" r="0" b="2480"/>
          <a:stretch/>
        </p:blipFill>
        <p:spPr>
          <a:xfrm>
            <a:off x="5796000" y="2060640"/>
            <a:ext cx="287964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4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49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Need helping Ste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2376360" cy="39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Back Pai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Knee Pai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Sciatica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Flat Fee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Hip Pai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Arthriti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Shoulder Pai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Shin Splin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Neck Pai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2421000"/>
            <a:ext cx="2879640" cy="39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Bunion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Recurrent Corn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Callus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Swollen Ank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High Arch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Aching Fee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Burning Fee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Claw To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Hammer Toes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1268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These are some of the conditions </a:t>
            </a:r>
            <a:br>
              <a:rPr sz="2600"/>
            </a:b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Foot Joint Mobilisation can help wi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8061" r="55068" b="12296"/>
          <a:stretch/>
        </p:blipFill>
        <p:spPr>
          <a:xfrm>
            <a:off x="539640" y="550800"/>
            <a:ext cx="1335240" cy="1222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0" b="5374"/>
          <a:stretch/>
        </p:blipFill>
        <p:spPr>
          <a:xfrm>
            <a:off x="7236000" y="549360"/>
            <a:ext cx="1439640" cy="1330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700"/>
                            </p:stCondLst>
                            <p:childTnLst>
                              <p:par>
                                <p:cTn id="1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400"/>
                            </p:stCondLst>
                            <p:childTnLst>
                              <p:par>
                                <p:cTn id="1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1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8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400"/>
                            </p:stCondLst>
                            <p:childTnLst>
                              <p:par>
                                <p:cTn id="1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200"/>
                            </p:stCondLst>
                            <p:childTnLst>
                              <p:par>
                                <p:cTn id="20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300"/>
                            </p:stCondLst>
                            <p:childTnLst>
                              <p:par>
                                <p:cTn id="2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61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880"/>
            <a:ext cx="61927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eagull Lt BT"/>
              </a:rPr>
              <a:t>Key Benefits for Stud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84360" y="1196640"/>
            <a:ext cx="6120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Safely experience the healing of 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6b6f8"/>
                </a:solidFill>
                <a:latin typeface="Tahoma"/>
              </a:rPr>
              <a:t>	</a:t>
            </a:r>
            <a:r>
              <a:rPr b="0" lang="en-NZ" sz="22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Confidence on completion of the workshop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Understanding of many foot problems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Certificate on completion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Able to help so many people of all ages and with an </a:t>
            </a:r>
            <a:r>
              <a:rPr b="0" lang="en-US" sz="2200" spc="-1" strike="noStrike">
                <a:solidFill>
                  <a:srgbClr val="00ffff"/>
                </a:solidFill>
                <a:latin typeface="Tahoma"/>
              </a:rPr>
              <a:t>assortment </a:t>
            </a: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 of conditions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ahoma"/>
              </a:rPr>
              <a:t>Feel safe knowing that there will be no depletion of energy after a </a:t>
            </a:r>
            <a:r>
              <a:rPr b="0" lang="en-US" sz="22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US" sz="2200" spc="-1" strike="noStrike">
                <a:solidFill>
                  <a:srgbClr val="00ffff"/>
                </a:solidFill>
                <a:latin typeface="Tahoma"/>
              </a:rPr>
              <a:t> treatment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Able to be Self Employed with no risk of people getting the wrong idea i.e. </a:t>
            </a:r>
            <a:r>
              <a:rPr b="0" lang="en-US" sz="2200" spc="-1" strike="noStrike">
                <a:solidFill>
                  <a:srgbClr val="00ffff"/>
                </a:solidFill>
                <a:latin typeface="Tahoma"/>
              </a:rPr>
              <a:t>no garments to be taken off, etc.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Proud to have learnt </a:t>
            </a:r>
            <a:r>
              <a:rPr b="0" lang="en-NZ" sz="22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ffff"/>
                </a:solidFill>
                <a:latin typeface="Tahoma"/>
              </a:rPr>
              <a:t>knowing they will make a difference in this world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1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1390680" cy="2581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4360" y="4581360"/>
            <a:ext cx="172872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BlizzardD"/>
              </a:rPr>
              <a:t>The building is only, as good   as   its   found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85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35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55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55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94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25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eagull Lt BT"/>
              </a:rPr>
              <a:t>Key Benefits for Cli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6048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ffff"/>
                </a:solidFill>
                <a:latin typeface="Tahoma"/>
              </a:rPr>
              <a:t>Many foot problems are corrected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ffff"/>
                </a:solidFill>
                <a:latin typeface="Tahoma"/>
              </a:rPr>
              <a:t>Many structural weakness are helped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No more Tired, sore or painful feet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ffff"/>
                </a:solidFill>
                <a:latin typeface="Tahoma"/>
              </a:rPr>
              <a:t>Healthier and Happie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and m</a:t>
            </a:r>
            <a:r>
              <a:rPr b="0" lang="en-NZ" sz="2600" spc="-1" strike="noStrike">
                <a:solidFill>
                  <a:srgbClr val="00ffff"/>
                </a:solidFill>
                <a:latin typeface="Tahoma"/>
              </a:rPr>
              <a:t>ore energy at the end of day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NZ" sz="2600" spc="-1" strike="noStrike">
                <a:solidFill>
                  <a:srgbClr val="00ffff"/>
                </a:solidFill>
                <a:latin typeface="Tahoma"/>
              </a:rPr>
              <a:t> is a treatment that clients look forward too. It is not painful and does not take long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All customers love to discuss this modality with their family and friends.  Word of mouth is the best advertisement for your business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0622" t="909" r="56858" b="23987"/>
          <a:stretch/>
        </p:blipFill>
        <p:spPr>
          <a:xfrm>
            <a:off x="7093080" y="1628640"/>
            <a:ext cx="600120" cy="1190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812000" y="1628640"/>
            <a:ext cx="619200" cy="120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263120" y="209844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Garamond"/>
                <a:ea typeface="Times New Roman"/>
              </a:rPr>
              <a:t> </a:t>
            </a:r>
            <a:endParaRPr b="0" lang="en-US" sz="11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rcRect l="4814" t="5598" r="3620" b="5176"/>
          <a:stretch/>
        </p:blipFill>
        <p:spPr>
          <a:xfrm>
            <a:off x="7164360" y="3645000"/>
            <a:ext cx="126360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70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70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890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890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eagull Lt BT"/>
              </a:rPr>
              <a:t>Key Benefits for Business or Soci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Happier Peopl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Healthier Peopl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Reduced strain on medical system with feet and structural weakness, joint imbalance, arthriti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Less artificial interference with patient’s anatomy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Stronger People physical, emotionally  and spiritually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A lot of new clients are word of mouth which reduces the need to high advertising costs</a:t>
            </a:r>
            <a:r>
              <a:rPr b="0" lang="en-NZ" sz="32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4382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1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3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85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1600"/>
                            </p:stCondLst>
                            <p:childTnLst>
                              <p:par>
                                <p:cTn id="3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450"/>
                            </p:stCondLst>
                            <p:childTnLst>
                              <p:par>
                                <p:cTn id="3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1:43:51Z</dcterms:created>
  <dc:creator> Maree Gifkins</dc:creator>
  <dc:description/>
  <dc:language>en-US</dc:language>
  <cp:lastModifiedBy>Maree</cp:lastModifiedBy>
  <dcterms:modified xsi:type="dcterms:W3CDTF">2008-02-25T01:31:49Z</dcterms:modified>
  <cp:revision>60</cp:revision>
  <dc:subject/>
  <dc:title>Teaching a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