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59C-5955-4E13-9D49-30B395E8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95F-31DF-4E7F-9622-15773445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AC0-4AD2-4957-8800-A22F2387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191-1473-40C1-8F33-6E5437EA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79E3-5417-4DD7-8529-C7B34D68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77E0-92A7-4804-A23A-E4E7E7B0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A5B5-1919-49D5-BCEA-D9E43EA6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50D5-4269-423E-843D-CD2F2E66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B8F6-DEFB-45CA-8744-AFAE34F4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B5C4-C47F-4316-B759-571DC128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692B-808E-4758-8629-E5A607E7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4B0-4690-4298-BCEB-2A5C4E2D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E05A-CE5D-467B-9AE2-1A4DE6A4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63A3-CC84-49FC-BE72-6BC33BB4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DBF0-4DFD-4DC3-8619-65C43E78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855C-E914-436E-8B49-ECD03CD7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B4AF-FBBB-4C46-BE63-326E5825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768-145F-44A4-B4F0-6A61815C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E74-BFC6-4F70-AB2C-008AAA93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E73-F91B-440D-BC68-F8627CF3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58B-6588-4208-A325-1C7567F5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9D3-8950-434A-BDB1-7AF10200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F90-3A72-45B9-AC80-A240D98B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C01-A183-41C4-B982-5D3AA54B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DCA7-5070-41B4-AC7D-68464AE0176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6E92-764A-4EBA-8653-3E01A71BB04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84360" y="620640"/>
            <a:ext cx="4175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eaching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 3 day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6440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9933ff"/>
                </a:solidFill>
                <a:latin typeface="Seagull Lt BT"/>
              </a:rPr>
              <a:t>Foot Joint Mobilisation</a:t>
            </a:r>
            <a:endParaRPr b="0" lang="en-US" sz="8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342120" y="3146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5084640"/>
            <a:ext cx="54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ith Maree Gifkin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96360" y="5734080"/>
            <a:ext cx="81252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2008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016000" cy="1700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087640" cy="177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87280" y="213372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tistik"/>
              </a:rPr>
              <a:t>Bef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4720" y="213372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tistik"/>
              </a:rPr>
              <a:t>Aft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14526" t="20109" r="13192" b="13007"/>
          <a:stretch/>
        </p:blipFill>
        <p:spPr>
          <a:xfrm>
            <a:off x="4716360" y="2924280"/>
            <a:ext cx="3959280" cy="310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3640" y="549000"/>
            <a:ext cx="482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Foot Joint Mobilis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1992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Tahoma"/>
              </a:rPr>
              <a:t>Ten minutes needed for Both Fee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Tahoma"/>
              </a:rPr>
              <a:t>Very specialized field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Tahoma"/>
              </a:rPr>
              <a:t>No clothes to be taken off, safe for both male and femal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357720"/>
            <a:ext cx="410364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Maree Gifkin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1111 St Aubyn St Eas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Hasting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New Zealan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+6468703929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Tahoma"/>
              </a:rPr>
              <a:t>www.footjointmobile.com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92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62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1200"/>
                            </p:stCondLst>
                            <p:childTnLst>
                              <p:par>
                                <p:cTn id="37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60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Seagull Lt BT"/>
              </a:rPr>
              <a:t>Maree Gifkins - Teac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5616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Australasian Specialist in</a:t>
            </a:r>
            <a:r>
              <a:rPr b="0" lang="en-NZ" sz="2400" spc="-1" strike="noStrike">
                <a:solidFill>
                  <a:srgbClr val="a6b6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a6b6f8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NZ" sz="2400" spc="-1" strike="noStrike">
                <a:solidFill>
                  <a:srgbClr val="c9fffe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Teaching </a:t>
            </a:r>
            <a:r>
              <a:rPr b="0" lang="en-NZ" sz="24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 for 12 years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Reflexology for 10 years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ffff"/>
                </a:solidFill>
                <a:latin typeface="Tahoma"/>
              </a:rPr>
              <a:t>Naturopath of 14 years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ffff"/>
                </a:solidFill>
                <a:latin typeface="Tahoma"/>
              </a:rPr>
              <a:t>Qualified in Teaching and Assessing Small Groups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Teaching Self Empowerment Courses for 4 year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7ffff"/>
                </a:solidFill>
                <a:latin typeface="Tahoma"/>
              </a:rPr>
              <a:t>Trainer/guide for Meditation Group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44560" cy="41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3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3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1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1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9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0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88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87640" y="549360"/>
            <a:ext cx="324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eagull Lt BT"/>
              </a:rPr>
              <a:t>Qualific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Trained by Dr Harvey Lampell (creator of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) USA, 14 years ago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Tahoma"/>
              </a:rPr>
              <a:t>Certified in Teaching and Assessi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12 years experience in teaching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 in various countri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Working through different types of learning abilities and </a:t>
            </a:r>
            <a:r>
              <a:rPr b="0" lang="en-NZ" sz="2800" spc="-1" strike="noStrike">
                <a:solidFill>
                  <a:srgbClr val="00ffff"/>
                </a:solidFill>
                <a:latin typeface="Tahoma"/>
              </a:rPr>
              <a:t>special needs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within the workshop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Patients, being my greatest tool and qualific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spd="slow">
    <p:cover dir="l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30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8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380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74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200"/>
                            </p:stCondLst>
                            <p:childTnLst>
                              <p:par>
                                <p:cTn id="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10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920" y="549360"/>
            <a:ext cx="469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eagull Lt BT"/>
              </a:rPr>
              <a:t>Quality of Teach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583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Teaching aids are used in clas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Pressure image used and discussed for validating </a:t>
            </a:r>
            <a:r>
              <a:rPr b="0" lang="en-US" sz="20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 in the 21</a:t>
            </a:r>
            <a:r>
              <a:rPr b="0" lang="en-US" sz="2000" spc="-1" strike="noStrike" baseline="30000">
                <a:solidFill>
                  <a:srgbClr val="00ffff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  century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Text book of </a:t>
            </a: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Theory,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 Photos to be used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Practical/Demonstrations to be experienced and watched and then practiced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Providing a safe environment for the learning of this modality for all students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Constant assessment with all students during workshop for learning quandary in theory and practical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Safe 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tmosphere and respect for healing of the body, soul and spirit to take place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2199" t="8630" r="12252" b="19418"/>
          <a:stretch/>
        </p:blipFill>
        <p:spPr>
          <a:xfrm>
            <a:off x="6084720" y="1484280"/>
            <a:ext cx="2521080" cy="2033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15565" t="15724" r="13409" b="13527"/>
          <a:stretch/>
        </p:blipFill>
        <p:spPr>
          <a:xfrm>
            <a:off x="6300720" y="3789360"/>
            <a:ext cx="2374920" cy="208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093080" y="335772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tistik"/>
              </a:rPr>
              <a:t>Bef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5734080"/>
            <a:ext cx="7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tistik"/>
              </a:rPr>
              <a:t>Aft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3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3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7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33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2800"/>
                            </p:stCondLst>
                            <p:childTnLst>
                              <p:par>
                                <p:cTn id="1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90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ssessment of studen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4897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Over the 3 days the teacher will supervise and correct the 17 moves that people will be learning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Practical application of all 17 moves learnt in the workshop will be demonstrated on the teacher towards the end of the course by all 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participants. </a:t>
            </a: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 In which an assessment and correction if needed will take place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This gives confidence to students that they are very capable of working on people straight away.  Also the teacher </a:t>
            </a:r>
            <a:r>
              <a:rPr b="0" lang="en-US" sz="2000" spc="-1" strike="noStrike">
                <a:solidFill>
                  <a:srgbClr val="00c0bc"/>
                </a:solidFill>
                <a:latin typeface="Tahoma"/>
              </a:rPr>
              <a:t>has instant verification</a:t>
            </a: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that these new </a:t>
            </a:r>
            <a:r>
              <a:rPr b="0" lang="en-US" sz="20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 therapists are prepared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13146" r="0" b="2480"/>
          <a:stretch/>
        </p:blipFill>
        <p:spPr>
          <a:xfrm>
            <a:off x="5796000" y="2060640"/>
            <a:ext cx="287964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4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49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5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Need helping Ste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2376360" cy="39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Back Pai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Knee Pai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Sciatica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Flat Fee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Hip Pai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Arthriti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Shoulder Pai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Shin Splin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Neck Pai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2421000"/>
            <a:ext cx="2879640" cy="39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Bunion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Recurrent Corn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Callus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Swollen Ank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High Arch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Aching Fee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Burning Fee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Claw To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ahoma"/>
              </a:rPr>
              <a:t>Hammer Toes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1268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These are some of the conditions </a:t>
            </a:r>
            <a:br>
              <a:rPr sz="2600"/>
            </a:b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Foot Joint Mobilisation can help wi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8061" r="55068" b="12296"/>
          <a:stretch/>
        </p:blipFill>
        <p:spPr>
          <a:xfrm>
            <a:off x="539640" y="550800"/>
            <a:ext cx="1335240" cy="1222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0" t="0" r="0" b="5374"/>
          <a:stretch/>
        </p:blipFill>
        <p:spPr>
          <a:xfrm>
            <a:off x="7236000" y="549360"/>
            <a:ext cx="1439640" cy="1330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700"/>
                            </p:stCondLst>
                            <p:childTnLst>
                              <p:par>
                                <p:cTn id="1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400"/>
                            </p:stCondLst>
                            <p:childTnLst>
                              <p:par>
                                <p:cTn id="1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1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8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400"/>
                            </p:stCondLst>
                            <p:childTnLst>
                              <p:par>
                                <p:cTn id="1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200"/>
                            </p:stCondLst>
                            <p:childTnLst>
                              <p:par>
                                <p:cTn id="20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300"/>
                            </p:stCondLst>
                            <p:childTnLst>
                              <p:par>
                                <p:cTn id="2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61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880"/>
            <a:ext cx="61927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eagull Lt BT"/>
              </a:rPr>
              <a:t>Key Benefits for Stud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84360" y="1196640"/>
            <a:ext cx="6120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Safely experience the healing of 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a6b6f8"/>
                </a:solidFill>
                <a:latin typeface="Tahoma"/>
              </a:rPr>
              <a:t>	</a:t>
            </a:r>
            <a:r>
              <a:rPr b="0" lang="en-NZ" sz="22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Confidence on completion of the workshop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Understanding of many foot problems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Certificate on completion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Able to help so many people of all ages and with an </a:t>
            </a:r>
            <a:r>
              <a:rPr b="0" lang="en-US" sz="2200" spc="-1" strike="noStrike">
                <a:solidFill>
                  <a:srgbClr val="00ffff"/>
                </a:solidFill>
                <a:latin typeface="Tahoma"/>
              </a:rPr>
              <a:t>assortment </a:t>
            </a: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 of conditions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ahoma"/>
              </a:rPr>
              <a:t>Feel safe knowing that there will be no depletion of energy after a </a:t>
            </a:r>
            <a:r>
              <a:rPr b="0" lang="en-US" sz="22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US" sz="2200" spc="-1" strike="noStrike">
                <a:solidFill>
                  <a:srgbClr val="00ffff"/>
                </a:solidFill>
                <a:latin typeface="Tahoma"/>
              </a:rPr>
              <a:t> treatment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Able to be Self Employed with no risk of people getting the wrong idea i.e. </a:t>
            </a:r>
            <a:r>
              <a:rPr b="0" lang="en-US" sz="2200" spc="-1" strike="noStrike">
                <a:solidFill>
                  <a:srgbClr val="00ffff"/>
                </a:solidFill>
                <a:latin typeface="Tahoma"/>
              </a:rPr>
              <a:t>no garments to be taken off, etc.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Proud to have learnt </a:t>
            </a:r>
            <a:r>
              <a:rPr b="0" lang="en-NZ" sz="22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NZ" sz="2200" spc="-1" strike="noStrike">
                <a:solidFill>
                  <a:srgbClr val="00ffff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ffff"/>
                </a:solidFill>
                <a:latin typeface="Tahoma"/>
              </a:rPr>
              <a:t>knowing they will make a difference in this world</a:t>
            </a:r>
            <a:endParaRPr b="0" lang="en-US" sz="2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1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1390680" cy="2581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4360" y="4581360"/>
            <a:ext cx="1728720" cy="12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BlizzardD"/>
              </a:rPr>
              <a:t>The building is only, as good   as   its   found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85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35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55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55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15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94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25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eagull Lt BT"/>
              </a:rPr>
              <a:t>Key Benefits for Cli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6048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ffff"/>
                </a:solidFill>
                <a:latin typeface="Tahoma"/>
              </a:rPr>
              <a:t>Many foot problems are corrected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ffff"/>
                </a:solidFill>
                <a:latin typeface="Tahoma"/>
              </a:rPr>
              <a:t>Many structural weakness are helped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No more Tired, sore or painful feet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ffff"/>
                </a:solidFill>
                <a:latin typeface="Tahoma"/>
              </a:rPr>
              <a:t>Healthier and Happie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and m</a:t>
            </a:r>
            <a:r>
              <a:rPr b="0" lang="en-NZ" sz="2600" spc="-1" strike="noStrike">
                <a:solidFill>
                  <a:srgbClr val="00ffff"/>
                </a:solidFill>
                <a:latin typeface="Tahoma"/>
              </a:rPr>
              <a:t>ore energy at the end of day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a6b6f8"/>
                </a:solidFill>
                <a:latin typeface="Tahoma"/>
              </a:rPr>
              <a:t>Foot Joint Mobilisation</a:t>
            </a:r>
            <a:r>
              <a:rPr b="0" lang="en-NZ" sz="2600" spc="-1" strike="noStrike">
                <a:solidFill>
                  <a:srgbClr val="00ffff"/>
                </a:solidFill>
                <a:latin typeface="Tahoma"/>
              </a:rPr>
              <a:t> is a treatment that clients look forward too. It is not painful and does not take long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All customers love to discuss this modality with their family and friends.  Word of mouth is the best advertisement for your business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10622" t="909" r="56858" b="23987"/>
          <a:stretch/>
        </p:blipFill>
        <p:spPr>
          <a:xfrm>
            <a:off x="7093080" y="1628640"/>
            <a:ext cx="600120" cy="1190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812000" y="1628640"/>
            <a:ext cx="619200" cy="120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263120" y="2098440"/>
            <a:ext cx="21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8f8f8"/>
                </a:solidFill>
                <a:latin typeface="Garamond"/>
                <a:ea typeface="Times New Roman"/>
              </a:rPr>
              <a:t> </a:t>
            </a:r>
            <a:endParaRPr b="0" lang="en-US" sz="11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rcRect l="4814" t="5598" r="3620" b="5176"/>
          <a:stretch/>
        </p:blipFill>
        <p:spPr>
          <a:xfrm>
            <a:off x="7164360" y="3645000"/>
            <a:ext cx="126360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70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70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890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890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eagull Lt BT"/>
              </a:rPr>
              <a:t>Key Benefits for Business or Soci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Happier Peopl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Healthier Peopl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Reduced strain on medical system with feet and structural weakness, joint imbalance, arthriti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Less artificial interference with patient’s anatomy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Stronger People physical, emotionally  and spiritually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4505"/>
              </a:buClr>
              <a:buFont typeface="GeographicSymbol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A lot of new clients are word of mouth which reduces the need to high advertising costs</a:t>
            </a:r>
            <a:r>
              <a:rPr b="0" lang="en-NZ" sz="32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c5b98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4382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1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3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85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1600"/>
                            </p:stCondLst>
                            <p:childTnLst>
                              <p:par>
                                <p:cTn id="3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450"/>
                            </p:stCondLst>
                            <p:childTnLst>
                              <p:par>
                                <p:cTn id="3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1:43:51Z</dcterms:created>
  <dc:creator> Maree Gifkins</dc:creator>
  <dc:description/>
  <dc:language>en-US</dc:language>
  <cp:lastModifiedBy>Maree</cp:lastModifiedBy>
  <dcterms:modified xsi:type="dcterms:W3CDTF">2008-02-25T01:31:49Z</dcterms:modified>
  <cp:revision>60</cp:revision>
  <dc:subject/>
  <dc:title>Teaching a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